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gif" ContentType="image/gi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044360" y="715680"/>
            <a:ext cx="4770360" cy="357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06588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906588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9181-2ADD-4C53-8FAE-0D6FA1AB612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F3BE-6BD6-43CA-AB73-E84D493BFFC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532400"/>
            <a:ext cx="548640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158A-927F-47C4-A318-2B6776F74E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B012-D53A-43B6-96C4-B396D79EB1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B8C2-B038-4D9D-ACAD-5B788C32A21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FDD8-CF11-4972-BCEF-C2638AEC8C5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818A-6B0B-4FFC-915F-9229C3AFF6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78A7-7456-4529-9093-22EF3E9BA26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5F33-1D51-47FB-88F7-7077F8D2086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7B94-AD11-4B25-9442-4B76F7807A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126C-EB09-4065-AE28-EBC8D84C12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B5F5-F23A-48A3-90ED-D01BEA18BE1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1BB8-A9CF-41F5-A7D7-2F060B8D11F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726D-0D7F-4253-999D-3F85DACE682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01A1-872F-4DC1-A000-0A7413EBC76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9931-22E6-4BFA-8C6F-30671D633A6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C1BF-7EC8-4C20-AB31-35CBB96C56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174F-6A18-4F1D-BF09-0DA29C2EB4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2550-FCDE-4C64-B493-545D7CCB2A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BCDF-0383-44A8-A22F-24CBEF307F5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968B-A62E-47E9-B02E-6D52EC0F37A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0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2" descr="ASS_MS_P_ELEITORAL_HORI_CMYK"/>
          <p:cNvPicPr/>
          <p:nvPr/>
        </p:nvPicPr>
        <p:blipFill>
          <a:blip r:embed="rId3"/>
          <a:stretch/>
        </p:blipFill>
        <p:spPr>
          <a:xfrm>
            <a:off x="7885080" y="6294600"/>
            <a:ext cx="1258920" cy="563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3" descr="BD18200_"/>
          <p:cNvPicPr/>
          <p:nvPr/>
        </p:nvPicPr>
        <p:blipFill>
          <a:blip r:embed="rId4"/>
          <a:stretch/>
        </p:blipFill>
        <p:spPr>
          <a:xfrm>
            <a:off x="2460600" y="879480"/>
            <a:ext cx="4626000" cy="597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SLIDE_ABERTURA_VERMELHO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612720" y="200340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Ferramenta de Tabul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TABW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7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9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10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4343400" y="2114640"/>
            <a:ext cx="0" cy="22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529128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4"/>
          <p:cNvSpPr/>
          <p:nvPr/>
        </p:nvSpPr>
        <p:spPr>
          <a:xfrm>
            <a:off x="3492360" y="27194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4500720" y="2108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536400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450072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5321160" y="2852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6084720" y="2852640"/>
            <a:ext cx="43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484360" y="836640"/>
            <a:ext cx="4751640" cy="586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6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7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684360" y="1804680"/>
            <a:ext cx="7708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casos do ano de 2007, separados por sex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 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11" descr="j0234687"/>
          <p:cNvPicPr/>
          <p:nvPr/>
        </p:nvPicPr>
        <p:blipFill>
          <a:blip r:embed="rId3"/>
          <a:stretch/>
        </p:blipFill>
        <p:spPr>
          <a:xfrm>
            <a:off x="2556000" y="3933720"/>
            <a:ext cx="41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2484360" y="836640"/>
            <a:ext cx="4751640" cy="586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755640" y="3561120"/>
            <a:ext cx="770904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” eu quer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Todos os c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separados por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separados por 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 que” eu quero?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 ano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0" descr="j0234687"/>
          <p:cNvPicPr/>
          <p:nvPr/>
        </p:nvPicPr>
        <p:blipFill>
          <a:blip r:embed="rId3"/>
          <a:stretch/>
        </p:blipFill>
        <p:spPr>
          <a:xfrm>
            <a:off x="2556000" y="981000"/>
            <a:ext cx="41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Object 7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Object 9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0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2"/>
          <p:cNvSpPr/>
          <p:nvPr/>
        </p:nvSpPr>
        <p:spPr>
          <a:xfrm>
            <a:off x="4343400" y="2114640"/>
            <a:ext cx="0" cy="22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529128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3492360" y="27194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4500720" y="2108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536400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3492360" y="3573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8"/>
          <p:cNvSpPr/>
          <p:nvPr/>
        </p:nvSpPr>
        <p:spPr>
          <a:xfrm>
            <a:off x="450072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5321160" y="2852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4500720" y="3692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5321160" y="36925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3203640" y="4941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NÃO é 2007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Object 9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10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4343400" y="2114640"/>
            <a:ext cx="0" cy="22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529128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4"/>
          <p:cNvSpPr/>
          <p:nvPr/>
        </p:nvSpPr>
        <p:spPr>
          <a:xfrm>
            <a:off x="3492360" y="27194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4500720" y="2108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536400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7"/>
          <p:cNvSpPr/>
          <p:nvPr/>
        </p:nvSpPr>
        <p:spPr>
          <a:xfrm>
            <a:off x="3492360" y="3573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450072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21160" y="2852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500720" y="3692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5321160" y="36925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3"/>
          <p:cNvSpPr/>
          <p:nvPr/>
        </p:nvSpPr>
        <p:spPr>
          <a:xfrm>
            <a:off x="4500720" y="45561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4"/>
          <p:cNvSpPr/>
          <p:nvPr/>
        </p:nvSpPr>
        <p:spPr>
          <a:xfrm>
            <a:off x="5321160" y="45561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3492360" y="2852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&lt;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3492360" y="36925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&gt;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8"/>
          <p:cNvSpPr/>
          <p:nvPr/>
        </p:nvSpPr>
        <p:spPr>
          <a:xfrm>
            <a:off x="3708360" y="45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9"/>
          <p:cNvSpPr/>
          <p:nvPr/>
        </p:nvSpPr>
        <p:spPr>
          <a:xfrm>
            <a:off x="608472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0"/>
          <p:cNvSpPr/>
          <p:nvPr/>
        </p:nvSpPr>
        <p:spPr>
          <a:xfrm>
            <a:off x="615636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1"/>
          <p:cNvSpPr/>
          <p:nvPr/>
        </p:nvSpPr>
        <p:spPr>
          <a:xfrm>
            <a:off x="6156360" y="3692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6156360" y="4556160"/>
            <a:ext cx="43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2484360" y="836640"/>
            <a:ext cx="4751640" cy="586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Object 6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7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684360" y="1804680"/>
            <a:ext cx="7708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casos do ano de 2007, separados por sexo,  idade e que não falece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1" descr="j0234687"/>
          <p:cNvPicPr/>
          <p:nvPr/>
        </p:nvPicPr>
        <p:blipFill>
          <a:blip r:embed="rId3"/>
          <a:stretch/>
        </p:blipFill>
        <p:spPr>
          <a:xfrm>
            <a:off x="2556000" y="3933720"/>
            <a:ext cx="41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2484360" y="836640"/>
            <a:ext cx="4751640" cy="586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755640" y="3483360"/>
            <a:ext cx="770904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” eu quer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Todos os c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separados por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separados por 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 que” eu quero?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do ano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que não falece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10" descr="j0234687"/>
          <p:cNvPicPr/>
          <p:nvPr/>
        </p:nvPicPr>
        <p:blipFill>
          <a:blip r:embed="rId3"/>
          <a:stretch/>
        </p:blipFill>
        <p:spPr>
          <a:xfrm>
            <a:off x="2556000" y="836640"/>
            <a:ext cx="419256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Object 7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Object 9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Rectangle 10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343400" y="2114640"/>
            <a:ext cx="0" cy="22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529128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3492360" y="27194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4500720" y="2108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36400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7"/>
          <p:cNvSpPr/>
          <p:nvPr/>
        </p:nvSpPr>
        <p:spPr>
          <a:xfrm>
            <a:off x="3492360" y="3573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450072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5321160" y="2852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4500720" y="3692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5321160" y="36925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3708360" y="4941720"/>
            <a:ext cx="26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NÃO é 2007: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Faleceram :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7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Object 9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Rectangle 10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4343400" y="2114640"/>
            <a:ext cx="0" cy="22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529128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3492360" y="27194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4500720" y="2108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536400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3492360" y="3573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450072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9"/>
          <p:cNvSpPr/>
          <p:nvPr/>
        </p:nvSpPr>
        <p:spPr>
          <a:xfrm>
            <a:off x="5321160" y="2852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4500720" y="3692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5321160" y="36925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22"/>
          <p:cNvSpPr/>
          <p:nvPr/>
        </p:nvSpPr>
        <p:spPr>
          <a:xfrm>
            <a:off x="4500720" y="45561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3"/>
          <p:cNvSpPr/>
          <p:nvPr/>
        </p:nvSpPr>
        <p:spPr>
          <a:xfrm>
            <a:off x="5321160" y="45561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4"/>
          <p:cNvSpPr/>
          <p:nvPr/>
        </p:nvSpPr>
        <p:spPr>
          <a:xfrm>
            <a:off x="3492360" y="2852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&lt;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5"/>
          <p:cNvSpPr/>
          <p:nvPr/>
        </p:nvSpPr>
        <p:spPr>
          <a:xfrm>
            <a:off x="3492360" y="36925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&gt;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3708360" y="45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7"/>
          <p:cNvSpPr/>
          <p:nvPr/>
        </p:nvSpPr>
        <p:spPr>
          <a:xfrm>
            <a:off x="608472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615636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9"/>
          <p:cNvSpPr/>
          <p:nvPr/>
        </p:nvSpPr>
        <p:spPr>
          <a:xfrm>
            <a:off x="6156360" y="3692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6156360" y="4556160"/>
            <a:ext cx="43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2484360" y="836640"/>
            <a:ext cx="4751640" cy="586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Object 6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7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13" descr=""/>
          <p:cNvPicPr/>
          <p:nvPr/>
        </p:nvPicPr>
        <p:blipFill>
          <a:blip r:embed="rId3"/>
          <a:stretch/>
        </p:blipFill>
        <p:spPr>
          <a:xfrm>
            <a:off x="1835280" y="1197000"/>
            <a:ext cx="60958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5"/>
          <p:cNvSpPr/>
          <p:nvPr/>
        </p:nvSpPr>
        <p:spPr>
          <a:xfrm>
            <a:off x="2484360" y="836640"/>
            <a:ext cx="4751640" cy="586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684360" y="1987560"/>
            <a:ext cx="7708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casos do ano de 2007, separados por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4" descr="j0234687"/>
          <p:cNvPicPr/>
          <p:nvPr/>
        </p:nvPicPr>
        <p:blipFill>
          <a:blip r:embed="rId3"/>
          <a:stretch/>
        </p:blipFill>
        <p:spPr>
          <a:xfrm>
            <a:off x="2556000" y="3933720"/>
            <a:ext cx="41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484360" y="836640"/>
            <a:ext cx="4751640" cy="586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Rectangle 7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11" descr=""/>
          <p:cNvPicPr/>
          <p:nvPr/>
        </p:nvPicPr>
        <p:blipFill>
          <a:blip r:embed="rId3"/>
          <a:stretch/>
        </p:blipFill>
        <p:spPr>
          <a:xfrm>
            <a:off x="2590920" y="2338560"/>
            <a:ext cx="3962160" cy="21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9280" y="1844640"/>
            <a:ext cx="8569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9999"/>
                </a:solidFill>
                <a:uFillTx/>
                <a:latin typeface="Times New Roman"/>
              </a:rPr>
              <a:t>SAÚDE PARA TODOS</a:t>
            </a:r>
            <a:br>
              <a:rPr sz="2800"/>
            </a:br>
            <a:br>
              <a:rPr sz="2800"/>
            </a:br>
            <a:r>
              <a:rPr b="1" lang="pt-BR" sz="2800" spc="-1" strike="noStrike" u="sng">
                <a:solidFill>
                  <a:srgbClr val="009999"/>
                </a:solidFill>
                <a:uFillTx/>
                <a:latin typeface="Times New Roman"/>
              </a:rPr>
              <a:t>OBRIGADO</a:t>
            </a:r>
            <a:br>
              <a:rPr sz="2800"/>
            </a:br>
            <a:br>
              <a:rPr sz="2800"/>
            </a:br>
            <a:r>
              <a:rPr b="1" lang="pt-BR" sz="2800" spc="-1" strike="noStrike" u="sng">
                <a:solidFill>
                  <a:srgbClr val="009999"/>
                </a:solidFill>
                <a:uFillTx/>
                <a:latin typeface="Times New Roman"/>
              </a:rPr>
              <a:t>Coordenador de Sistemas de Informação em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484360" y="836640"/>
            <a:ext cx="4751640" cy="586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6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7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755640" y="3932280"/>
            <a:ext cx="77090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casos do ano 2007, separados por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" descr="j0234687"/>
          <p:cNvPicPr/>
          <p:nvPr/>
        </p:nvPicPr>
        <p:blipFill>
          <a:blip r:embed="rId3"/>
          <a:stretch/>
        </p:blipFill>
        <p:spPr>
          <a:xfrm>
            <a:off x="2771640" y="1197000"/>
            <a:ext cx="419256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484360" y="836640"/>
            <a:ext cx="4751640" cy="586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755640" y="3710880"/>
            <a:ext cx="77090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” eu quer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Todos os c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separados por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 que” eu quero?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11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 ano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" descr="j0234687"/>
          <p:cNvPicPr/>
          <p:nvPr/>
        </p:nvPicPr>
        <p:blipFill>
          <a:blip r:embed="rId3"/>
          <a:stretch/>
        </p:blipFill>
        <p:spPr>
          <a:xfrm>
            <a:off x="2556000" y="981000"/>
            <a:ext cx="41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9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10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4343400" y="2114640"/>
            <a:ext cx="0" cy="22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529128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3492360" y="27194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4500720" y="2108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536400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450072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7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9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10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4343400" y="2114640"/>
            <a:ext cx="0" cy="22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529128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3492360" y="27194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4500720" y="2108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536400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50072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7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9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10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4343400" y="2114640"/>
            <a:ext cx="0" cy="22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529128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3492360" y="27194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500720" y="2108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536400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450072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321160" y="2852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9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10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4343400" y="2114640"/>
            <a:ext cx="0" cy="22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529128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3492360" y="27194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4500720" y="2108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36400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450072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5321160" y="2852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203640" y="4941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NÃO é 2007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7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8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9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0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1368360" y="404640"/>
            <a:ext cx="69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300"/>
                </a:solidFill>
                <a:latin typeface="Arial"/>
              </a:rPr>
              <a:t>Sinan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4343400" y="2114640"/>
            <a:ext cx="0" cy="22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529128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492360" y="27194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4500720" y="2108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536400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450072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5321160" y="2852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I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3203640" y="4941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NÃO é 2007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user</cp:lastModifiedBy>
  <cp:lastPrinted>2003-11-05T12:59:01Z</cp:lastPrinted>
  <dcterms:modified xsi:type="dcterms:W3CDTF">2013-09-16T01:37:29Z</dcterms:modified>
  <cp:revision>316</cp:revision>
  <dc:subject/>
  <dc:title>PowerPoint Presentation</dc:title>
</cp:coreProperties>
</file>