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2E5-0C9A-43D1-87A4-A355189A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32F-1CB1-4DAA-81C1-AEF58AA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E2D-4D94-429D-B769-337A5004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FB3-16EA-40C5-BE1D-5F2917B5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85F-2F4A-455F-80FB-2FA5E2BD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97B8-E66B-4992-A519-5E313EB0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9124-35DA-4484-8DF7-16D7058B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3B3-25E5-4B32-9618-A20AAFC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17C-08EE-48D7-A780-234FD05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DA56-480C-492C-A392-2806BE24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EAB3-6BFE-443A-9E77-F410309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C47-6C6D-44CA-ABA4-7BA92B3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BAC4-10AF-49FD-AB23-A5E0CD2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F22B-BA4A-46B9-A04F-2392567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0783-2FBA-4BB9-BC61-E91E55C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94CB-05A0-4F79-9BFD-764CE4D6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7B8-75F7-4427-90F6-5CDA0404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F58B-5905-41BC-B7A3-2442BEC4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71AB-CF00-4554-B26E-4BA9442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5A2B-B193-48CF-8AA2-E3CBDEFD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4D9B-7609-40FF-9C5E-FE1C02FE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861E-4528-48BB-B86A-91389D5E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733-65F9-47B9-B07D-78B91726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AE0B-3E35-4C54-96B3-4F3F9F91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3BA1-AF9E-4984-960B-0D06E5A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1236-A3CB-4D2E-BF3A-B2D85D9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CD13-815E-412A-8802-E79138E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AD35-5C91-4F84-9F3F-50D90CF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1F9A-4D08-44C1-B1CD-BA7B306F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D773-4E72-4E78-B4DD-5910839F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3FC5-1E6E-4E80-B421-31AAF092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43F2-FD49-4F70-84E4-3A42F9E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F177-6369-4669-B99C-EA119E80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942-1272-49DC-BBED-14670CE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A204-B01C-485A-BDEA-C9CF865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C706-93AC-463B-939F-0E04C8D7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5955-1B38-4CC8-86DE-C9EFBBD3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DBD8-860A-4423-BB76-7BDEDEE5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959F-9F9A-4A14-96D8-2CC6C04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724D-A924-4672-A16C-5403519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408B-705D-4437-9F79-408C371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FD91-A54B-4E6F-8DD4-669B3209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051C-30CF-4B61-BB9F-86CB695D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2B7-DFAF-45CE-9A74-F32ECB0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EA7-A2AF-4BBE-801C-31BF985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3D9-AA56-4FCA-8421-74473F32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6C7-4709-4661-B8EE-7F124C8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5C4-3610-4ACE-A78B-6676270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4D5-CA24-45F7-9A6E-9B51C671A3CF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910-0C87-4368-8AA1-C044D726AF0A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EFE-736D-4969-95F9-D1B56BB27A64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7C4-0FC4-4E6B-AD1D-E89545035D6D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datasus.gov.br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2214360"/>
            <a:ext cx="8001000" cy="45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Conceito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Fontes e Métodos de Utilização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Aplicações e Resultado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Demonstração e Atividades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21556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dbf5f9"/>
                </a:solidFill>
                <a:latin typeface="Arial"/>
                <a:ea typeface="Arial"/>
              </a:rPr>
              <a:t>Conceito: 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  <a:ea typeface="Arial"/>
              </a:rPr>
              <a:t>TabDos, TabWin e TabNet são ferramentas de tabulação desenvolvidas pelo DATASUS – TabDos inicialmente e depois TabWin(utilização Windows) e TabNet (Internet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dbf5f9"/>
                </a:solidFill>
                <a:latin typeface="Arial"/>
                <a:ea typeface="Arial"/>
              </a:rPr>
              <a:t>Objetivo: 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  <a:ea typeface="Arial"/>
              </a:rPr>
              <a:t>Prover a necessidade de gestores, estudiosos e público interessado da área da saúde obterem e analisarem, com rapidez e objetividade, os dados dos sistemas de informações do Sistema Único de Saúde. </a:t>
            </a:r>
            <a:br>
              <a:rPr sz="2400"/>
            </a:br>
            <a:br>
              <a:rPr sz="22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99680" y="17859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pt-BR" sz="3100" spc="-1" strike="noStrike">
                <a:solidFill>
                  <a:srgbClr val="dbf5f9"/>
                </a:solidFill>
                <a:latin typeface="Arial"/>
                <a:ea typeface="Arial"/>
              </a:rPr>
              <a:t>FONTES: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A)Esses programas são de distribuição gratuita e estão disponíveis para download no site (</a:t>
            </a:r>
            <a:r>
              <a:rPr b="0" lang="pt-BR" sz="23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/>
              </a:rPr>
              <a:t>www.datasus.gov.br</a:t>
            </a: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B) Computadores que utilizam o sistema SinanNet.</a:t>
            </a: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t-BR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85480" y="185724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dbf5f9"/>
                </a:solidFill>
                <a:latin typeface="Arial"/>
                <a:ea typeface="Arial"/>
              </a:rPr>
              <a:t>Métodos de Utilização: 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Importe as tabulações efetuadas na Internet (geradas pelo aplicativo </a:t>
            </a:r>
            <a:r>
              <a:rPr b="1" i="1" lang="pt-BR" sz="2200" spc="-1" strike="noStrike">
                <a:solidFill>
                  <a:srgbClr val="ffffff"/>
                </a:solidFill>
                <a:latin typeface="Constantia"/>
              </a:rPr>
              <a:t>TABNET</a:t>
            </a: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, desenvolvido pelo DATASU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Realize operações aritméticas e estatísticas nos dados da tabela gerada ou importada pelo </a:t>
            </a:r>
            <a:r>
              <a:rPr b="1" i="1" lang="pt-BR" sz="2200" spc="-1" strike="noStrike">
                <a:solidFill>
                  <a:srgbClr val="ffffff"/>
                </a:solidFill>
                <a:latin typeface="Constantia"/>
              </a:rPr>
              <a:t>TabWin</a:t>
            </a: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Elabore gráficos de vários tipos, inclusive mapas, a partir dos dados dessa tabel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Efetue outras operações na tabela, ajustando-a às suas necessidade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57120" y="150012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dbf5f9"/>
                </a:solidFill>
                <a:latin typeface="Arial"/>
                <a:ea typeface="Arial"/>
              </a:rPr>
              <a:t>Aplicações e Resultados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Construção e aplicação de índices e indicadores de produção de serviços, de características epidemiológicas (incidência de doenças, agravos e mortalidade) e dos aspectos demográficos de interesse (educação, saneamento, renda e etc) - por estado e municípi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O planejamento e programação de serviços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A avaliação e tomada de decisões relativas à alocação e distribuição de recursos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Avaliação do impacto de intervenções nas condições de saú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ítulo 1" descr=""/>
          <p:cNvPicPr/>
          <p:nvPr/>
        </p:nvPicPr>
        <p:blipFill>
          <a:blip r:embed="rId1"/>
          <a:stretch/>
        </p:blipFill>
        <p:spPr>
          <a:xfrm>
            <a:off x="0" y="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8429400" cy="52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dbf5f9"/>
                </a:solidFill>
                <a:latin typeface="Arial"/>
                <a:ea typeface="Arial"/>
              </a:rPr>
              <a:t>DEMONSTRAÇÃO DA FERRAMENTA .</a:t>
            </a: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e2d700"/>
                </a:solidFill>
                <a:uFillTx/>
                <a:latin typeface="Calibri"/>
              </a:rPr>
              <a:t>SAÚDE PARA TOD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e2d700"/>
                </a:solidFill>
                <a:uFillTx/>
                <a:latin typeface="Calibri"/>
              </a:rPr>
              <a:t>OBRIGADO</a:t>
            </a:r>
            <a:br>
              <a:rPr sz="2800"/>
            </a:br>
            <a:r>
              <a:rPr b="1" lang="pt-BR" sz="2800" spc="-1" strike="noStrike" u="sng">
                <a:solidFill>
                  <a:srgbClr val="e2d700"/>
                </a:solidFill>
                <a:uFillTx/>
                <a:latin typeface="Calibri"/>
              </a:rPr>
              <a:t>Coordenador de Sistemas de Informação em Saúde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1" name="Picture 4" descr="MPj04244280000[1]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4:29:04Z</dcterms:created>
  <dc:creator>SPAIS</dc:creator>
  <dc:description/>
  <dc:language>en-US</dc:language>
  <cp:lastModifiedBy>user</cp:lastModifiedBy>
  <dcterms:modified xsi:type="dcterms:W3CDTF">2013-09-16T01:38:21Z</dcterms:modified>
  <cp:revision>44</cp:revision>
  <dc:subject/>
  <dc:title>FERRAMENTA TABWIN</dc:title>
</cp:coreProperties>
</file>